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media/CHIMES.WAV" ContentType="audio/x-wav"/>
  <Override PartName="/ppt/media/PROJCTOR.WAV" ContentType="audio/x-wav"/>
  <Override PartName="/ppt/media/explode.wav" ContentType="audio/x-wav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62A-DADB-4F4B-9BA8-8965B19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2C7-AA90-4DA2-9340-470C751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BA0-764B-445D-8BE0-C365A811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D25-E869-4AF1-9233-37163187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8EAE-BC5A-424B-8E70-740B31B0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215-0E16-4D96-B6D1-26E41CCE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751D-E5D1-41DD-90BF-FB99D66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9B44-ABA3-469B-80D3-22B447E1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4F26-7A93-4C7D-A66C-5CB67C8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83F-9EB7-4754-BCD9-D333F01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664D-A163-454C-B09E-AAD3654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E93-91A7-41D7-9654-7834C07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5F8B-3F89-4817-B137-6340E64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A0B-B7D7-492D-9E2C-456AA2D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D1E3-6FA6-49BF-9C51-D0CBA6B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6B1-C48D-45E7-8D2D-A3BE4795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3609-5AD2-4397-AD72-CE5D57B3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38AE-E884-4F86-9690-3F0C86E4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1A75-7944-4180-888F-F3E2714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F290-4983-4E44-9A77-88A31D05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6222-EAE0-4E56-A9B7-284DBD9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044E-2CE0-4438-BBBE-07FEA2E6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66B-DF3F-456F-AA2A-E8C0F80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6868-AD68-42A3-A9AB-0571B9D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553D-699E-48EF-8407-4209B30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34A3-FEA2-4FCC-A83E-789E9F3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8C2F-DFD0-486C-9271-5DB1D6F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2A75-C82F-4D01-AF5D-CBAC9530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9C64-2CDA-48D8-8E05-8716DF54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CBB6-B24A-450D-BFF9-A426B670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614-A12A-4F5F-B6BB-9C76B69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B9F-E715-43AD-99E8-2655665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FAB-A3FF-4299-A470-654A6AA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B2A-B445-413E-ABB1-512FBC1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81A-1E04-4F3E-94E5-2018C79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F51-61D2-4023-8F66-94577EC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919-486F-463E-97EF-1C835624C79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16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ategori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5c44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0BD8-58F8-4F0F-8CC3-D86A8C6C8D0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7975-4DA4-44DF-8904-2226E125056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25.xml"/><Relationship Id="rId7" Type="http://schemas.openxmlformats.org/officeDocument/2006/relationships/slide" Target="slide15.xml"/><Relationship Id="rId8" Type="http://schemas.openxmlformats.org/officeDocument/2006/relationships/slide" Target="slide5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13.xml"/><Relationship Id="rId12" Type="http://schemas.openxmlformats.org/officeDocument/2006/relationships/slide" Target="slide3.xm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3730320"/>
            <a:ext cx="8077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Created by Lynne Crandall</a:t>
            </a:r>
            <a:br>
              <a:rPr sz="4800"/>
            </a:br>
            <a:r>
              <a:rPr b="0" lang="en-US" sz="32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University of Michigan</a:t>
            </a:r>
            <a:br>
              <a:rPr sz="4800"/>
            </a:br>
            <a:r>
              <a:rPr b="0" lang="en-US" sz="48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Revised by Mark Kondrak</a:t>
            </a:r>
            <a:br>
              <a:rPr sz="4800"/>
            </a:br>
            <a:r>
              <a:rPr b="0" lang="en-US" sz="32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CLA Language Center</a:t>
            </a:r>
            <a:br>
              <a:rPr sz="4800"/>
            </a:br>
            <a:r>
              <a:rPr b="0" lang="en-US" sz="32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University of Minnesot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762120"/>
            <a:ext cx="3706920" cy="2176200"/>
          </a:xfrm>
          <a:prstGeom prst="rect">
            <a:avLst/>
          </a:pr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uld you pu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n image her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1056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6080" y="538308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538308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640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228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3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056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6080" y="4403880"/>
            <a:ext cx="155448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0520" y="4403880"/>
            <a:ext cx="155556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640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056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6080" y="342576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0520" y="342576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228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5" action="ppaction://hlinksldjump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0876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464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8720" y="244800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460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876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464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469880"/>
            <a:ext cx="15559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4460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048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0876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464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98720" y="49212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460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048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0408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996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4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4040" y="522360"/>
            <a:ext cx="155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3992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26320" y="6278400"/>
            <a:ext cx="300240" cy="366840"/>
          </a:xfrm>
          <a:custGeom>
            <a:avLst/>
            <a:gdLst>
              <a:gd name="textAreaLeft" fmla="*/ 19440 w 300240"/>
              <a:gd name="textAreaRight" fmla="*/ 280800 w 300240"/>
              <a:gd name="textAreaTop" fmla="*/ 19440 h 366840"/>
              <a:gd name="textAreaBottom" fmla="*/ 347400 h 366840"/>
            </a:gdLst>
            <a:ahLst/>
            <a:rect l="textAreaLeft" t="textAreaTop" r="textAreaRight" b="textAreaBottom"/>
            <a:pathLst>
              <a:path w="21600" h="26386">
                <a:moveTo>
                  <a:pt x="0" y="0"/>
                </a:moveTo>
                <a:lnTo>
                  <a:pt x="21600" y="0"/>
                </a:lnTo>
                <a:lnTo>
                  <a:pt x="21600" y="26386"/>
                </a:lnTo>
                <a:lnTo>
                  <a:pt x="0" y="26386"/>
                </a:lnTo>
                <a:close/>
              </a:path>
              <a:path fill="lightenLess" w="21600" h="26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86">
                <a:moveTo>
                  <a:pt x="21600" y="0"/>
                </a:moveTo>
                <a:lnTo>
                  <a:pt x="21600" y="26386"/>
                </a:lnTo>
                <a:lnTo>
                  <a:pt x="20200" y="24986"/>
                </a:lnTo>
                <a:lnTo>
                  <a:pt x="20200" y="1400"/>
                </a:lnTo>
                <a:close/>
              </a:path>
              <a:path fill="darkenLess" w="21600" h="26386">
                <a:moveTo>
                  <a:pt x="21600" y="26386"/>
                </a:moveTo>
                <a:lnTo>
                  <a:pt x="0" y="26386"/>
                </a:lnTo>
                <a:lnTo>
                  <a:pt x="1400" y="24986"/>
                </a:lnTo>
                <a:lnTo>
                  <a:pt x="20200" y="24986"/>
                </a:lnTo>
                <a:close/>
              </a:path>
              <a:path fill="lighten" w="21600" h="26386">
                <a:moveTo>
                  <a:pt x="0" y="26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86"/>
                </a:lnTo>
                <a:close/>
              </a:path>
              <a:path fill="darken" w="21600" h="26386">
                <a:moveTo>
                  <a:pt x="14299" y="13193"/>
                </a:moveTo>
                <a:lnTo>
                  <a:pt x="3794" y="20199"/>
                </a:lnTo>
                <a:lnTo>
                  <a:pt x="3794" y="6186"/>
                </a:lnTo>
                <a:close/>
              </a:path>
              <a:path fill="darken" w="21600" h="26386">
                <a:moveTo>
                  <a:pt x="16144" y="6186"/>
                </a:moveTo>
                <a:lnTo>
                  <a:pt x="16144" y="20199"/>
                </a:lnTo>
                <a:lnTo>
                  <a:pt x="17806" y="20199"/>
                </a:lnTo>
                <a:lnTo>
                  <a:pt x="17806" y="618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821720" y="5840280"/>
            <a:ext cx="493560" cy="551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51160"/>
              <a:gd name="textAreaBottom" fmla="*/ 519480 h 551160"/>
            </a:gdLst>
            <a:ahLst/>
            <a:rect l="textAreaLeft" t="textAreaTop" r="textAreaRight" b="textAreaBottom"/>
            <a:pathLst>
              <a:path w="21600" h="24119">
                <a:moveTo>
                  <a:pt x="0" y="0"/>
                </a:moveTo>
                <a:lnTo>
                  <a:pt x="21600" y="0"/>
                </a:lnTo>
                <a:lnTo>
                  <a:pt x="21600" y="24119"/>
                </a:lnTo>
                <a:lnTo>
                  <a:pt x="0" y="24119"/>
                </a:lnTo>
                <a:close/>
              </a:path>
              <a:path fill="lightenLess" w="21600" h="241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9">
                <a:moveTo>
                  <a:pt x="21600" y="0"/>
                </a:moveTo>
                <a:lnTo>
                  <a:pt x="21600" y="24119"/>
                </a:lnTo>
                <a:lnTo>
                  <a:pt x="20200" y="22719"/>
                </a:lnTo>
                <a:lnTo>
                  <a:pt x="20200" y="1400"/>
                </a:lnTo>
                <a:close/>
              </a:path>
              <a:path fill="darkenLess" w="21600" h="24119">
                <a:moveTo>
                  <a:pt x="21600" y="24119"/>
                </a:moveTo>
                <a:lnTo>
                  <a:pt x="0" y="24119"/>
                </a:lnTo>
                <a:lnTo>
                  <a:pt x="1400" y="22719"/>
                </a:lnTo>
                <a:lnTo>
                  <a:pt x="20200" y="22719"/>
                </a:lnTo>
                <a:close/>
              </a:path>
              <a:path fill="lighten" w="21600" h="24119">
                <a:moveTo>
                  <a:pt x="0" y="241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9"/>
                </a:lnTo>
                <a:close/>
              </a:path>
              <a:path fill="darken" w="21600" h="24119">
                <a:moveTo>
                  <a:pt x="10800" y="160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19">
                <a:moveTo>
                  <a:pt x="11905" y="15541"/>
                </a:moveTo>
                <a:lnTo>
                  <a:pt x="11905" y="13583"/>
                </a:lnTo>
                <a:cubicBezTo>
                  <a:pt x="11905" y="12756"/>
                  <a:pt x="12236" y="12059"/>
                  <a:pt x="12837" y="12059"/>
                </a:cubicBezTo>
                <a:cubicBezTo>
                  <a:pt x="13968" y="12059"/>
                  <a:pt x="14865" y="10693"/>
                  <a:pt x="14865" y="9109"/>
                </a:cubicBezTo>
                <a:cubicBezTo>
                  <a:pt x="14865" y="6794"/>
                  <a:pt x="13011" y="5053"/>
                  <a:pt x="10800" y="5053"/>
                </a:cubicBezTo>
                <a:cubicBezTo>
                  <a:pt x="8589" y="5053"/>
                  <a:pt x="6918" y="6794"/>
                  <a:pt x="6918" y="9109"/>
                </a:cubicBezTo>
                <a:lnTo>
                  <a:pt x="8772" y="9109"/>
                </a:lnTo>
                <a:cubicBezTo>
                  <a:pt x="8772" y="7969"/>
                  <a:pt x="9695" y="7081"/>
                  <a:pt x="10800" y="7081"/>
                </a:cubicBezTo>
                <a:cubicBezTo>
                  <a:pt x="11905" y="7081"/>
                  <a:pt x="12837" y="7969"/>
                  <a:pt x="12837" y="9109"/>
                </a:cubicBezTo>
                <a:cubicBezTo>
                  <a:pt x="12837" y="9849"/>
                  <a:pt x="12367" y="10580"/>
                  <a:pt x="11905" y="10580"/>
                </a:cubicBezTo>
                <a:cubicBezTo>
                  <a:pt x="10800" y="10580"/>
                  <a:pt x="9695" y="12059"/>
                  <a:pt x="9695" y="13583"/>
                </a:cubicBezTo>
                <a:lnTo>
                  <a:pt x="9695" y="1554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correct 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question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Put some closing remark her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61840" y="2389320"/>
            <a:ext cx="7459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The Daily Double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32560" y="5964120"/>
            <a:ext cx="754200" cy="363600"/>
          </a:xfrm>
          <a:custGeom>
            <a:avLst/>
            <a:gdLst>
              <a:gd name="textAreaLeft" fmla="*/ 0 w 754200"/>
              <a:gd name="textAreaRight" fmla="*/ 754560 w 7542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“question”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3:27:32Z</dcterms:created>
  <dc:creator>Lynne Crandall</dc:creator>
  <dc:description>Adapted from the template provided by Serafin Coronil-Molina.</dc:description>
  <cp:keywords>jeopardy</cp:keywords>
  <dc:language>en-US</dc:language>
  <cp:lastModifiedBy>Administrator</cp:lastModifiedBy>
  <dcterms:modified xsi:type="dcterms:W3CDTF">2006-09-28T19:34:17Z</dcterms:modified>
  <cp:revision>144</cp:revision>
  <dc:subject/>
  <dc:title>Jeopardy prompt and response template</dc:title>
</cp:coreProperties>
</file>